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0DA9-74DD-4E2D-AAC7-2144FDD99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219A-A705-4319-ADF0-1FF86E428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FF04-1CA7-4C79-94D6-972913278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62E2-4A97-4DAC-A31C-72245EF2E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40BD-E4BB-408B-BAC9-6C1F90E4D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8BDA-8B9A-49DA-8EFE-6169051FB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8DC4-8D3A-44D2-85C9-206B5D8D7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8A60-73E8-404C-A22E-302C06C65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A769-0795-4365-898F-E519E1D38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4844-C145-49AD-9907-DFDF8373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ED06-964A-4A4B-B344-62DE689C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D086-DBD5-4146-A40A-D08F9966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4A7FD-BA15-4368-B48D-EBDB37D004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7632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cc00"/>
                </a:solidFill>
                <a:latin typeface="Arial"/>
              </a:rPr>
              <a:t>Me llamo ________ Clase 6nh</a:t>
            </a:r>
            <a:br>
              <a:rPr sz="3800"/>
            </a:br>
            <a:r>
              <a:rPr b="0" lang="en-US" sz="3800" spc="-1" strike="noStrike">
                <a:solidFill>
                  <a:srgbClr val="99cc00"/>
                </a:solidFill>
                <a:latin typeface="Arial"/>
              </a:rPr>
              <a:t>La fecha es el 23 de abril del 20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54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De donde es tu familia? ¿A donde es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XT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y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rcicio 6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46 (1-8) and WRITE if the sentence describes a CHARACTERISTIC or a CON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 Ejercicio 9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47 (1-5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WORK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pleta p. 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er y estar—origen y colocacion</a:t>
            </a:r>
            <a:br>
              <a:rPr sz="40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Origin and Loc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You use the verb SER to tell where someone or something is from; its orig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Por ejemp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La profesora ES de Puerto R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l café ES de Colomb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Nosotros SOMOS de Boliv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Las bananas SON de Ecuad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Tú ERES de Nueva Y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Yo SOY de Méx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2.  You use ESTAR to express where someone or something is located. ESTAR expresses both temporary and permanent lo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Por ejemp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Los alumnos ESTAN en la escu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Madrid ESTA en Españ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Yo ESTOY en la clase de españ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llos ESTAN en la cafeter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0584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Ejercicio 1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. 4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Ejercicio 1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. 49 (1-6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457200" y="297180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5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4T15:54:16Z</dcterms:created>
  <dc:creator>Helen Zumaeta</dc:creator>
  <dc:description/>
  <dc:language>en-US</dc:language>
  <cp:lastModifiedBy>Helen Zumaeta</cp:lastModifiedBy>
  <cp:lastPrinted>2013-04-04T12:35:03Z</cp:lastPrinted>
  <dcterms:modified xsi:type="dcterms:W3CDTF">2013-04-23T18:09:51Z</dcterms:modified>
  <cp:revision>11</cp:revision>
  <dc:subject/>
  <dc:title>Me llamo _________  Clase 7 im La fecha es el 15 de abril del 2011</dc:title>
</cp:coreProperties>
</file>